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439D-7717-457A-A7A3-8B7DB7B0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F2EE-F247-4152-80CB-1A6AF700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3A91-F57E-4A8C-941B-DFFB3FC9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5694-0340-4144-B2CC-BBA46F50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24176-CE42-4AC2-B25D-80033CD9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5BA42-FDC8-4304-94F2-F4A60AF6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9D38B-0037-4786-B41D-AF31EA90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C20A9-D4C6-4508-AD1B-8A3C8F98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DF719-4464-433C-AFD7-892B6174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8D08F-AEC6-4B63-B8F5-DB538FC2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1887B-60D4-448A-A4E2-1E64A23E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9BB0-7113-432B-A115-646D1734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EC20D-5B36-41B2-8C7F-03C9CADA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7C729-92AC-4689-BB27-59655C78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EA99B-36B8-4B03-9DC8-C8D6C9A1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95352-8E6D-4B20-96F9-AB9E7472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9C643-6463-4706-A520-DD96CEBE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108A-9550-4891-9E71-312EB036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7AF5-0536-4907-99D2-76D217DC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6010-2CAF-4ABC-8164-C6A0D993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0508-A805-48DB-8C9D-43A88B5F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F33F-30BC-4D90-891C-B567C3AD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EC72-9164-41CD-8B61-46532DE8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7B00-4C33-4BA4-BD92-FDA8170D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C588-3E40-4C27-88B3-0BB91C7D6A14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1AD0-E12A-454E-BE44-62B2AEAFCCA4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upload.wikimedia.org/wikipedia/commons/2/29/Regina_Elisabeta_-_Foto01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VALUAR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ITIAL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904760" y="3967200"/>
            <a:ext cx="54990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f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IRCESCU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RISTINA M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ar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ste rolul Monarhiei in Romania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324080" y="1628640"/>
            <a:ext cx="2241360" cy="2106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Fişier:Regina Elisabeta - Foto0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1557360"/>
            <a:ext cx="2160720" cy="2158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324080" y="4005360"/>
            <a:ext cx="2311200" cy="1958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5724360" y="4002120"/>
            <a:ext cx="230688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e stim despre Romania pana in anul 1914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4920" y="765000"/>
          <a:ext cx="9109080" cy="6093000"/>
        </p:xfrm>
        <a:graphic>
          <a:graphicData uri="http://schemas.openxmlformats.org/drawingml/2006/table">
            <a:tbl>
              <a:tblPr/>
              <a:tblGrid>
                <a:gridCol w="2941560"/>
                <a:gridCol w="3056040"/>
                <a:gridCol w="3111480"/>
              </a:tblGrid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 stiu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 vreau sa stiu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 am invat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.I.Cuza este unificatorul Tarii Romanesti si Moldove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mnitor al Romanie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n 1862 A.I.Cuza va colabora cu un singur guvern si o singura Adunare legislativ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.I.Cuza si M. Kogalniceanu reformeaza Roman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mania nu este stat independ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ile puteri recunoscusera unirea si dubla alegere doar pe timpul domniei lui A.I.Cuz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manii au acceptat la conducere un Print strain pentru a mentine unitatea statulu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1866 este adopteta Constituti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1877-1878 Romania si-a cucerit independenta de sta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ile puteri au recunoscut Independenta si unirea Dobrogei cu Romania in cadrul Congresului de la Berli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 ce a participat Romania la primul razboi mondial 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re a fost rolul monarhiei in realizarea statului national unitar roman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re a fost rolul Romaniei in infrangerea Puterilor Centrale 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e conditii s- a format statul national unitar roman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 influenta a avut familia regala in dezvoltare culturii romanest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 rol au palatele:Bran,Balcic in viata familiei regale si a romanilor in general 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milia regala s-a implicat in dezvoltarea econ.,sociala si culturala a Romanie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mania participa la primul razboi mondial pentru a-si realiza unitatea stata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18-Marea Unire-Ferdinand I este “partas” la realizarea istor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ia I patroneaza Crucea Rosi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stine financiar personalitati din lumea culturala si artistica din Roman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struieste palatul de la Balcic(S.Dobrogei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ragostita de Balcic,regina cere ca la moartea ei inima sa-I fie ingropata la Balcic,iar trupul la Curtea de Arges alaturi de sotul ei,lucru care s-a si intampla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sociati termenii din stanga cu imaginile din partea dreap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2262240"/>
            <a:ext cx="40449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rol I de Hohenzoll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ependenta Romani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erdinand I de Hohenzoll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rmarea statului national ro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583240" y="1905120"/>
            <a:ext cx="2162160" cy="1987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583240" y="4032360"/>
            <a:ext cx="21715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9:20:00Z</dcterms:created>
  <dc:creator>User</dc:creator>
  <dc:description/>
  <dc:language>en-US</dc:language>
  <cp:lastModifiedBy>User</cp:lastModifiedBy>
  <dcterms:modified xsi:type="dcterms:W3CDTF">2010-02-07T17:59:49Z</dcterms:modified>
  <cp:revision>11</cp:revision>
  <dc:subject/>
  <dc:title>EVALUARE INITIALA </dc:title>
</cp:coreProperties>
</file>